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1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20.jpeg" ContentType="image/jpeg"/>
  <Override PartName="/ppt/media/image31.png" ContentType="image/png"/>
  <Override PartName="/ppt/media/image32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3.png" ContentType="image/png"/>
  <Override PartName="/ppt/media/image13.jpeg" ContentType="image/jpeg"/>
  <Override PartName="/ppt/media/image40.jpeg" ContentType="image/jpeg"/>
  <Override PartName="/ppt/media/image34.png" ContentType="image/png"/>
  <Override PartName="/ppt/media/image44.jpeg" ContentType="image/jpeg"/>
  <Override PartName="/ppt/media/image36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45.jpeg" ContentType="image/jpeg"/>
  <Override PartName="/ppt/media/image9.jpeg" ContentType="image/jpeg"/>
  <Override PartName="/ppt/media/image11.png" ContentType="image/png"/>
  <Override PartName="/ppt/media/image38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83AB-669A-46EE-8D0C-00C41A3C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8C82-43CE-4A88-B5FD-FBB4F2583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0C2-AEB8-4610-ACB6-76DC9127B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2B3E-3B67-4EA5-BE83-708FB1EAB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699-07FF-47A6-922B-359B67E6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F6A9-4BFB-45D5-845F-62839505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7294-CC52-47A0-A4A6-EE93E5D2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3DC7-109B-4485-9981-73545E0E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D9D-B513-4D14-BD3F-6E95674A5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8EE-8821-4594-8CEB-5075ACA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E074-68A3-4754-9099-E1F23F99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0516-B6BD-4B3F-9701-7786141F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B44FB-02C2-4D96-AAD3-3BAE82FED8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6800" y="713880"/>
            <a:ext cx="7844040" cy="20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第十六章  昆 虫 纲 </a:t>
            </a:r>
            <a:br>
              <a:rPr sz="4400"/>
            </a:br>
            <a:r>
              <a:rPr b="1" lang="en-US" sz="4400" spc="-1" strike="noStrike">
                <a:solidFill>
                  <a:srgbClr val="1f497d"/>
                </a:solidFill>
                <a:latin typeface="宋体"/>
              </a:rPr>
              <a:t>Insecta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概 述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C:\Users\Administrator\Desktop\b72714b6440df6e80ef7cf3e61337cd5.jpg"/>
          <p:cNvPicPr/>
          <p:nvPr/>
        </p:nvPicPr>
        <p:blipFill>
          <a:blip r:embed="rId1"/>
          <a:stretch/>
        </p:blipFill>
        <p:spPr>
          <a:xfrm>
            <a:off x="2987640" y="1125360"/>
            <a:ext cx="2857680" cy="2990880"/>
          </a:xfrm>
          <a:prstGeom prst="rect">
            <a:avLst/>
          </a:prstGeom>
          <a:ln w="0">
            <a:noFill/>
          </a:ln>
        </p:spPr>
      </p:pic>
      <p:sp>
        <p:nvSpPr>
          <p:cNvPr id="59" name="内容占位符 1"/>
          <p:cNvSpPr/>
          <p:nvPr/>
        </p:nvSpPr>
        <p:spPr>
          <a:xfrm>
            <a:off x="2489040" y="4581360"/>
            <a:ext cx="66549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 的 生 活 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不全变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体和成虫的形态和生活习性相似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但体积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尚未发育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经数次蜕皮后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性器官逐渐发育成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类幼体称若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虱、蜚蠊等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不全变态通常有三个发育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卵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若虫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-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图片 5" descr="QQ图片20140512095415.jpg"/>
          <p:cNvPicPr/>
          <p:nvPr/>
        </p:nvPicPr>
        <p:blipFill>
          <a:blip r:embed="rId1"/>
          <a:stretch/>
        </p:blipFill>
        <p:spPr>
          <a:xfrm>
            <a:off x="857160" y="3286080"/>
            <a:ext cx="3603600" cy="307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1d49ac4619dc1e53896c25e0cf5ccf84"/>
          <p:cNvPicPr/>
          <p:nvPr/>
        </p:nvPicPr>
        <p:blipFill>
          <a:blip r:embed="rId2"/>
          <a:srcRect l="0" t="3650" r="0" b="12827"/>
          <a:stretch/>
        </p:blipFill>
        <p:spPr>
          <a:xfrm>
            <a:off x="5786280" y="3286080"/>
            <a:ext cx="2830680" cy="292896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1571760" y="6215040"/>
            <a:ext cx="235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蜚蠊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5929200" y="6215040"/>
            <a:ext cx="249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臭虫的生活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0" dur="1" fill="hold"/>
                                  <p:tgtEl>
                                    <p:spTgt spid="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1"/>
          <p:cNvSpPr/>
          <p:nvPr/>
        </p:nvSpPr>
        <p:spPr>
          <a:xfrm>
            <a:off x="214200" y="474840"/>
            <a:ext cx="8643960" cy="28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昆虫胚后发育中，幼虫或若虫需蜕皮数次，两次蜕皮之间的虫态称为龄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孵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体破卵而出的过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龄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幼体蜕皮次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化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幼虫发育为蛹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羽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成虫从蛹壳钻出的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一节  蚊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000" spc="-1" strike="noStrike">
                <a:solidFill>
                  <a:srgbClr val="1f497d"/>
                </a:solidFill>
                <a:latin typeface="宋体"/>
              </a:rPr>
              <a:t>M</a:t>
            </a:r>
            <a:r>
              <a:rPr b="1" lang="en-US" sz="4000" spc="-1" strike="noStrike">
                <a:solidFill>
                  <a:srgbClr val="1f497d"/>
                </a:solidFill>
                <a:latin typeface="宋体"/>
                <a:ea typeface="Aharoni"/>
              </a:rPr>
              <a:t>osquito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85480" y="609120"/>
            <a:ext cx="4786200" cy="596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蚊属于双翅目蚊科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是一类最重要的医学昆虫。 我国已发现蚊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属近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70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亚）种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中按蚊、库蚊、伊蚊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属蚊种约占半数以上，也是传播人类疾病的主要蚊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C:\Users\Administrator\Desktop\549273e17470f10091c4d1dfedeb2c26 (1).jpg"/>
          <p:cNvPicPr/>
          <p:nvPr/>
        </p:nvPicPr>
        <p:blipFill>
          <a:blip r:embed="rId1"/>
          <a:srcRect l="0" t="3394" r="0" b="0"/>
          <a:stretch/>
        </p:blipFill>
        <p:spPr>
          <a:xfrm>
            <a:off x="5429160" y="1247760"/>
            <a:ext cx="3357720" cy="50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1" dur="1" fill="hold"/>
                                  <p:tgtEl>
                                    <p:spTgt spid="6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85840" y="713880"/>
            <a:ext cx="8858160" cy="553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小型昆虫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2.6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棕褐色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黑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、触角和触须各一对。触角各鞭节具轮毛，雌蚊的轮文短而稀，雄蚊轮毛长而密。两性按蚊的触须均与喙等长，库蚊与伊蚊的雌蚊触须甚短，库蚊雄蚊触须长于喙，伊蚊雄蚊触须与喙等长。雌蚊口器为刺吸式口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分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前、中、后胸三节。中胸发达，有翅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后胸有平衡棒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各胸节有足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对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。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明显可见 。末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节变为外生殖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456840"/>
            <a:ext cx="438624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喙（口器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内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上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舌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颚一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下唇一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左大括号 4"/>
          <p:cNvSpPr/>
          <p:nvPr/>
        </p:nvSpPr>
        <p:spPr>
          <a:xfrm>
            <a:off x="1187280" y="1125360"/>
            <a:ext cx="142920" cy="3429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3429000"/>
              <a:gd name="textAreaBottom" fmla="*/ 342540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8"/>
                  <a:pt x="10800" y="75"/>
                </a:cubicBezTo>
                <a:lnTo>
                  <a:pt x="10800" y="10725"/>
                </a:lnTo>
                <a:cubicBezTo>
                  <a:pt x="10800" y="10763"/>
                  <a:pt x="5400" y="10800"/>
                  <a:pt x="0" y="10800"/>
                </a:cubicBezTo>
                <a:cubicBezTo>
                  <a:pt x="5400" y="10800"/>
                  <a:pt x="10800" y="10838"/>
                  <a:pt x="10800" y="10875"/>
                </a:cubicBezTo>
                <a:lnTo>
                  <a:pt x="10800" y="21525"/>
                </a:lnTo>
                <a:cubicBezTo>
                  <a:pt x="10800" y="2156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539640" y="2133720"/>
            <a:ext cx="50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图片 6" descr="蚊Ppt0000001-1.JPG"/>
          <p:cNvPicPr/>
          <p:nvPr/>
        </p:nvPicPr>
        <p:blipFill>
          <a:blip r:embed="rId1"/>
          <a:srcRect l="44063" t="0" r="0" b="19948"/>
          <a:stretch/>
        </p:blipFill>
        <p:spPr>
          <a:xfrm>
            <a:off x="4357800" y="928800"/>
            <a:ext cx="42955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4" dur="1" fill="hold"/>
                                  <p:tgtEl>
                                    <p:spTgt spid="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3520" y="457200"/>
            <a:ext cx="81532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内部构造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消化系统：口腔、咽 、食道、胃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中肠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、             后肠及肛门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排泄系统：在中肠后端可见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条马氏管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呼吸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循环系统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生殖系统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左大括号 2"/>
          <p:cNvSpPr/>
          <p:nvPr/>
        </p:nvSpPr>
        <p:spPr>
          <a:xfrm>
            <a:off x="250920" y="1628640"/>
            <a:ext cx="357120" cy="39610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3961080"/>
              <a:gd name="textAreaBottom" fmla="*/ 3952080 h 396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5400" y="10800"/>
                  <a:pt x="0" y="10800"/>
                </a:cubicBezTo>
                <a:cubicBezTo>
                  <a:pt x="54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7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785520"/>
            <a:ext cx="914400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幼虫（第四龄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m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触角 、复眼 、单眼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，咀嚼式口器。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略呈方形，不分节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可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。按蚊各节背面有掌状毛。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背面有气门或呼吸管，是幼虫期分类的重要依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左大括号 5"/>
          <p:cNvSpPr/>
          <p:nvPr/>
        </p:nvSpPr>
        <p:spPr>
          <a:xfrm>
            <a:off x="642960" y="3357720"/>
            <a:ext cx="571320" cy="214308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143080"/>
              <a:gd name="textAreaBottom" fmla="*/ 21283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214200" y="3929040"/>
            <a:ext cx="50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Calibri"/>
              </a:rPr>
              <a:t>结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（雄）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第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9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0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1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92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93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三次蜕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~3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37"/>
          <p:cNvSpPr/>
          <p:nvPr/>
        </p:nvSpPr>
        <p:spPr>
          <a:xfrm>
            <a:off x="1739880" y="4357800"/>
            <a:ext cx="54612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~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3"/>
          <p:cNvSpPr/>
          <p:nvPr/>
        </p:nvSpPr>
        <p:spPr>
          <a:xfrm>
            <a:off x="642960" y="1357200"/>
            <a:ext cx="7786800" cy="13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是动物界种类最多、数量最大的一个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与人类经济和健康有密切关系，是医学节肢动物中最重要的一个组成部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昆虫纲的主要特征是：成虫分头、胸、腹三部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头部有触角一对，胸部有足三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-128880" y="533520"/>
            <a:ext cx="927252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孳生习性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静水型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中华按蚊、三带喙库蚊、嗜人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缓流型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微小按蚊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污染水体：淡色库蚊、致倦库蚊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丛林型：大劣按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）小型积水：白纹伊蚊、埃及伊蚊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0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42640" y="457200"/>
            <a:ext cx="89010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吸血习性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雄蚊：只吸植物汁液和花蜜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雌蚊：吸食人和动物血液。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5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人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大劣按蚊、嗜人按蚊、致倦库蚊、淡色库蚊、白纹伊蚊、埃及伊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偏嗜家畜血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中华按蚊、三带喙库蚊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7" dur="1" fill="hold"/>
                                  <p:tgtEl>
                                    <p:spTgt spid="1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栖息习性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家栖型：室内栖息（淡色库蚊 嗜人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半家栖型：吸血后随即或稍在室内停留后，飞至室外栖息（中华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野栖型：从吸血到产卵都在野外（大劣按蚊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交配与产卵：交配常在未吸血之前进行，多种蚊的交配是在群舞时进行。雌蚊交配后需吸人或动物血后卵巢才能发育，并产卵，蚊一生能多次产卵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与飞翔能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活动时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多在清晨、黄昏、夜间活动，伊蚊多在白天活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飞翔能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一般几十米到几百米。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季节消长和越冬：蚊虫种群的季节消长与温度、湿度和雨量等密切相关。越冬可在不同虫期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卵、幼虫或成蚊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进行，因种而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4" dur="1" fill="hold"/>
                                  <p:tgtEl>
                                    <p:spTgt spid="10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80880"/>
            <a:ext cx="91440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       </a:t>
            </a:r>
            <a:r>
              <a:rPr b="1" lang="zh-CN" sz="4000" spc="-1" strike="noStrike">
                <a:solidFill>
                  <a:srgbClr val="1f497d"/>
                </a:solidFill>
                <a:latin typeface="宋体"/>
              </a:rPr>
              <a:t>四、我国主要传病蚊种及其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华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sinens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全国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；马来丝虫病的主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媒介，班氏丝虫病的次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5359320" y="2143080"/>
            <a:ext cx="3784680" cy="35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33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56840" y="457200"/>
            <a:ext cx="83818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微小按蚊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An.minimus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分布：海南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嗜吸人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长江流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偏嗜牛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疟疾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3286080" y="2786040"/>
            <a:ext cx="50418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72" dur="1" fill="hold"/>
                                  <p:tgtEl>
                                    <p:spTgt spid="10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淡色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ulex  pipiens  pallen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与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楷体_GB2312"/>
              </a:rPr>
              <a:t>致倦库蚊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C. p. quinquefasciatus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分布：淡色库蚊分布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4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北地区，致倦库蚊在北纬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2°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以南地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班氏丝虫病的主要媒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C:\Users\Administrator\Desktop\u=3570943059,1049178618&amp;fm=23&amp;gp=0.jpg"/>
          <p:cNvPicPr/>
          <p:nvPr/>
        </p:nvPicPr>
        <p:blipFill>
          <a:blip r:embed="rId1"/>
          <a:stretch/>
        </p:blipFill>
        <p:spPr>
          <a:xfrm>
            <a:off x="642960" y="2571840"/>
            <a:ext cx="3286080" cy="3805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C:\Users\Administrator\Desktop\u=1714910314,1607752462&amp;fm=23&amp;gp=0.jpg"/>
          <p:cNvPicPr/>
          <p:nvPr/>
        </p:nvPicPr>
        <p:blipFill>
          <a:blip r:embed="rId2"/>
          <a:stretch/>
        </p:blipFill>
        <p:spPr>
          <a:xfrm>
            <a:off x="4788000" y="2708280"/>
            <a:ext cx="3500280" cy="36432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785880" y="627372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淡 色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5214960" y="6273720"/>
            <a:ext cx="278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 倦 库 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97" dur="1" fill="hold"/>
                                  <p:tgtEl>
                                    <p:spTgt spid="10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380880"/>
            <a:ext cx="815328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白纹伊蚊（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Aedes.albopictus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华文中宋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分布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辽宁省以南各省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隶书"/>
              </a:rPr>
              <a:t>传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：登革热的主要媒介；可传流行性乙型脑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3" descr="C:\Users\Administrator\Desktop\f603918fa0ec08fa0304f84e59ee3d6d54fbdad7.jpg"/>
          <p:cNvPicPr/>
          <p:nvPr/>
        </p:nvPicPr>
        <p:blipFill>
          <a:blip r:embed="rId1"/>
          <a:stretch/>
        </p:blipFill>
        <p:spPr>
          <a:xfrm>
            <a:off x="755640" y="2708280"/>
            <a:ext cx="46432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2" dur="1" fill="hold"/>
                                  <p:tgtEl>
                                    <p:spTgt spid="11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f497d"/>
                </a:solidFill>
                <a:latin typeface="宋体"/>
              </a:rPr>
              <a:t>防制方法包括环境治理、物理防制及生物防制等综合性防制措施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环境治理：改变孳生环境，消除或减少孳生场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蚊幼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1)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杀虫：双硫磷、倍硫磷、辛硫磷、       毒死蜱。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杀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天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蛙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菌：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ti-14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苏云金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s-10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球形芽孢杆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灭成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药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马拉硫磷、甲嘧硫磷、拟除虫菊酯类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防蚊：装设纱窗纱门，挂蚊帐；用拟除虫菊酯处理蚊帐具有安全、有效、简便和经济的优点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5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6" dur="1" fill="hold"/>
                                  <p:tgtEl>
                                    <p:spTgt spid="115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第二节 白  蛉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Sand Fli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9680" y="2928960"/>
            <a:ext cx="8258040" cy="357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sandfly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属双翅目、毛蛉科、白蛉亚科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hlebotomina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，是一类体小多毛的吸血昆虫，全世界已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种，我国已报告近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5" descr="C:\Users\Administrator\Desktop\d83480f53184cad38907f6f5ce54c29f.jpg"/>
          <p:cNvPicPr/>
          <p:nvPr/>
        </p:nvPicPr>
        <p:blipFill>
          <a:blip r:embed="rId1"/>
          <a:stretch/>
        </p:blipFill>
        <p:spPr>
          <a:xfrm>
            <a:off x="2643120" y="714240"/>
            <a:ext cx="42148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533520" y="533160"/>
            <a:ext cx="807696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形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触角一对（嗅觉  触觉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复眼一对 （由蜂房状小眼面组成）或有若干单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头部前方或腹面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口器类型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咀嚼式   、 刺吸式 、  舐吸式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黄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球形。口器为刺吸式。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呈驼背状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雄外生殖器与雌受精囊的形态为分类的重要依据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图片 3" descr="u=469589104,3573282418&amp;fm=23&amp;gp=0.jpg"/>
          <p:cNvPicPr/>
          <p:nvPr/>
        </p:nvPicPr>
        <p:blipFill>
          <a:blip r:embed="rId1"/>
          <a:stretch/>
        </p:blipFill>
        <p:spPr>
          <a:xfrm>
            <a:off x="4071960" y="1071720"/>
            <a:ext cx="4167000" cy="25002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成（雄）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雌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第二、三、四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4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5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36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37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2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~3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37"/>
          <p:cNvSpPr/>
          <p:nvPr/>
        </p:nvSpPr>
        <p:spPr>
          <a:xfrm>
            <a:off x="1668600" y="2714760"/>
            <a:ext cx="5461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~10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3780000" y="1628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雌雄交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白蛉为全变态昆虫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5" name="Picture 4" descr="C:\Users\Administrator\Desktop\6af39e2fdcd603d57ddd08c225480235.jpg"/>
          <p:cNvPicPr/>
          <p:nvPr/>
        </p:nvPicPr>
        <p:blipFill>
          <a:blip r:embed="rId1"/>
          <a:stretch/>
        </p:blipFill>
        <p:spPr>
          <a:xfrm>
            <a:off x="611280" y="333360"/>
            <a:ext cx="821520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8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  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　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孳生地：　幼虫生活在地面下约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2c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隐蔽、温湿度适宜、土质疏松且富含有机物处，如人房、畜舍、厕所、窑洞、墙缝等处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食性：　雄蛉以植物汁液为食。雌蛉自羽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小时后吸血。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560160"/>
            <a:ext cx="9144000" cy="629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栖息与活动　飞翔能力弱，作跳跃式飞行，活动范围一般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0m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内。成虫通常栖息于屋角、墙缝、畜舍、地窖、窑洞、桥洞等处。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．季节消长与越冬　白蛉岀现的季节较短，白蛉的季节分布与当地的温度变化有关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452000" cy="43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四、与疾病的关系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利什曼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黑热病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杜氏利什曼原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主要为中华白蛉、长管白蛉、吳氏白蛉。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4"/>
          <p:cNvSpPr/>
          <p:nvPr/>
        </p:nvSpPr>
        <p:spPr>
          <a:xfrm>
            <a:off x="5312160" y="3645000"/>
            <a:ext cx="115524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内脏利什曼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4" descr="内脏利什曼病患者"/>
          <p:cNvPicPr/>
          <p:nvPr/>
        </p:nvPicPr>
        <p:blipFill>
          <a:blip r:embed="rId1"/>
          <a:stretch/>
        </p:blipFill>
        <p:spPr>
          <a:xfrm>
            <a:off x="3629160" y="3645000"/>
            <a:ext cx="174132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857840" cy="664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东方疖：又称皮肤利什曼病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热带利什曼原虫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为巴氏白蛉、司氏白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皮肤黏膜利什曼病：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是巴西利什曼原虫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白蛉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白蛉热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病原体为病毒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为罗蛉属和白蛉属白蛉。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图片 2" descr="afafdb6e9458ac0a06cd6fdc1c98f223.jpg"/>
          <p:cNvPicPr/>
          <p:nvPr/>
        </p:nvPicPr>
        <p:blipFill>
          <a:blip r:embed="rId1"/>
          <a:stretch/>
        </p:blipFill>
        <p:spPr>
          <a:xfrm>
            <a:off x="4786200" y="785880"/>
            <a:ext cx="4124520" cy="41432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5072040" y="51436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皮肤利什曼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13840" y="274680"/>
            <a:ext cx="8472600" cy="636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1f497d"/>
                </a:solidFill>
                <a:latin typeface="宋体"/>
              </a:rPr>
              <a:t>五、防 制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白蛉的防制以控制成蛉为主，辅以改造环境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环境治理：消除幼虫孳生地。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杀灭成蛉：用溴氰菊酯、顺式氯氰菊酯、马拉硫磷等药剂灭蛉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人防护：使用蚊帐，安装纱门、纱窗；涂擦驱避剂或用艾蒿烟熏。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271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第三节 蝇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4800" spc="-1" strike="noStrike">
                <a:solidFill>
                  <a:srgbClr val="1f497d"/>
                </a:solidFill>
                <a:latin typeface="Calibri"/>
              </a:rPr>
              <a:t>Flies 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071360" y="1499760"/>
            <a:ext cx="74674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蝇属双翅目、环裂亚目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我国已记录有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500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多种。与疾病有关的多属蝇科、丽蝇科、麻蝇科及狂蝇科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0" y="285480"/>
            <a:ext cx="428616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蝇口器（舐吸式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C:\Users\Administrator\Desktop\d52bf1c3e6244f5bdea575cc5fab2cb9.jpg"/>
          <p:cNvPicPr/>
          <p:nvPr/>
        </p:nvPicPr>
        <p:blipFill>
          <a:blip r:embed="rId1"/>
          <a:stretch/>
        </p:blipFill>
        <p:spPr>
          <a:xfrm>
            <a:off x="5143680" y="1500120"/>
            <a:ext cx="3230280" cy="42148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8" descr="图片1.jpg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611280" y="907920"/>
            <a:ext cx="3287520" cy="46087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6" descr="蚊Ppt0000001-1.JPG"/>
          <p:cNvPicPr/>
          <p:nvPr/>
        </p:nvPicPr>
        <p:blipFill>
          <a:blip r:embed="rId3"/>
          <a:srcRect l="43311" t="0" r="0" b="20997"/>
          <a:stretch/>
        </p:blipFill>
        <p:spPr>
          <a:xfrm>
            <a:off x="0" y="571680"/>
            <a:ext cx="453564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-360" y="837720"/>
            <a:ext cx="889308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灰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黄褐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暗褐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复眼一对、单眼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，触角一对。口器为舐吸式。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2" descr="C:\Users\Administrator\Desktop\u=3920737500,296426282&amp;fm=23&amp;gp=0.jpg"/>
          <p:cNvPicPr/>
          <p:nvPr/>
        </p:nvPicPr>
        <p:blipFill>
          <a:blip r:embed="rId1"/>
          <a:stretch/>
        </p:blipFill>
        <p:spPr>
          <a:xfrm>
            <a:off x="2195640" y="3573360"/>
            <a:ext cx="3784320" cy="3154320"/>
          </a:xfrm>
          <a:prstGeom prst="rect">
            <a:avLst/>
          </a:prstGeom>
          <a:ln w="0">
            <a:noFill/>
          </a:ln>
        </p:spPr>
      </p:pic>
      <p:sp>
        <p:nvSpPr>
          <p:cNvPr id="161" name="TextBox 5"/>
          <p:cNvSpPr/>
          <p:nvPr/>
        </p:nvSpPr>
        <p:spPr>
          <a:xfrm>
            <a:off x="5724360" y="5805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468360" y="549360"/>
            <a:ext cx="48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胸部： 中胸发达，其背板和侧板上旳鬃毛、斑纹等特征是分类的根据。前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后翅退化为平衡棒。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，末端有爪和爪垫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6" descr="f3a245f5da12fc4f52ac9149773037c2"/>
          <p:cNvPicPr/>
          <p:nvPr/>
        </p:nvPicPr>
        <p:blipFill>
          <a:blip r:embed="rId1"/>
          <a:stretch/>
        </p:blipFill>
        <p:spPr>
          <a:xfrm>
            <a:off x="5796000" y="476280"/>
            <a:ext cx="2933640" cy="36734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7"/>
          <p:cNvSpPr/>
          <p:nvPr/>
        </p:nvSpPr>
        <p:spPr>
          <a:xfrm>
            <a:off x="6443640" y="4221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蝇 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3" descr="丽蝇翅"/>
          <p:cNvPicPr/>
          <p:nvPr/>
        </p:nvPicPr>
        <p:blipFill>
          <a:blip r:embed="rId2"/>
          <a:stretch/>
        </p:blipFill>
        <p:spPr>
          <a:xfrm>
            <a:off x="468360" y="3854520"/>
            <a:ext cx="525600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00000" y="981000"/>
            <a:ext cx="777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腹部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节演化为外生殖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 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642960" y="528624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6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7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178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179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乘号 32"/>
          <p:cNvSpPr/>
          <p:nvPr/>
        </p:nvSpPr>
        <p:spPr>
          <a:xfrm>
            <a:off x="3929040" y="2143080"/>
            <a:ext cx="1000080" cy="42876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760"/>
              <a:gd name="textAreaBottom" fmla="*/ 372240 h 42876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Box 37"/>
          <p:cNvSpPr/>
          <p:nvPr/>
        </p:nvSpPr>
        <p:spPr>
          <a:xfrm>
            <a:off x="1695600" y="2492280"/>
            <a:ext cx="546120" cy="15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21"/>
          <p:cNvSpPr/>
          <p:nvPr/>
        </p:nvSpPr>
        <p:spPr>
          <a:xfrm>
            <a:off x="3429000" y="1643040"/>
            <a:ext cx="222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323640" y="69228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孳生地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粪便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垃圾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腐败植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腐败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动物质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440" y="60912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食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不食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器退化，不能取食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以人与动物血液为食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厩螫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非吸血蝇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杂食性，此类蝇取食频繁，且边吃、边吐、边排便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31" dur="1" fill="hold"/>
                                  <p:tgtEl>
                                    <p:spTgt spid="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250560" y="0"/>
            <a:ext cx="8459640" cy="70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栖息与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间常停落于天花板 、 悬挂物上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在白昼具亮光处活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善飞翔，可随交通工具扩散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季节消长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春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巨尾阿丽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大头金蝇  、丝光绿蝇 、尾黑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夏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秋型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舍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394920" y="404280"/>
            <a:ext cx="8459640" cy="602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越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以蛹越冬，如金蝇、丽蝇、麻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少数以幼虫越冬，在孳生物底层，如绿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成虫越冬的蝇类不多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蛰伏于墙缝、屋角、 地下室等，如厩螫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家蝇幼虫、蛹、成虫均可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2" dur="indefinite" restart="never" nodeType="tmRoot">
          <p:childTnLst>
            <p:seq>
              <p:cTn id="733" dur="indefinite" nodeType="mainSeq">
                <p:childTnLst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5" dur="1" fill="hold"/>
                                  <p:tgtEl>
                                    <p:spTgt spid="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68000" y="692280"/>
            <a:ext cx="7667640" cy="29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f497d"/>
                </a:solidFill>
                <a:latin typeface="Calibri"/>
              </a:rPr>
              <a:t>四、我国主要蝇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舍蝇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Musca domestic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幼虫主要孳生于畜粪和垃圾中。成虫常出入住室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室内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95%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为该蝇种。与各种疾病关系密切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3" descr="舍蝇"/>
          <p:cNvPicPr/>
          <p:nvPr/>
        </p:nvPicPr>
        <p:blipFill>
          <a:blip r:embed="rId1"/>
          <a:srcRect l="4038" t="4736" r="2423" b="39916"/>
          <a:stretch/>
        </p:blipFill>
        <p:spPr>
          <a:xfrm>
            <a:off x="2360520" y="2924280"/>
            <a:ext cx="429912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89" dur="1" fill="hold"/>
                                  <p:tgtEl>
                                    <p:spTgt spid="19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610920" y="475920"/>
            <a:ext cx="7667640" cy="29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头金蝇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hrysomyia megacephal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人粪便中，成虫活动于腐烂的瓜果、蔬菜及粪便周围。是夏秋季肠道传染病的主要传播蝇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1027" descr="大头金蝇"/>
          <p:cNvPicPr/>
          <p:nvPr/>
        </p:nvPicPr>
        <p:blipFill>
          <a:blip r:embed="rId1"/>
          <a:srcRect l="6795" t="8452" r="2999" b="39214"/>
          <a:stretch/>
        </p:blipFill>
        <p:spPr>
          <a:xfrm>
            <a:off x="2484360" y="2781360"/>
            <a:ext cx="381636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285840" y="380880"/>
            <a:ext cx="885816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胸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前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中胸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胸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各胸节的腹面都有一对足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足分基、转、股、胫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跗节又分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。跗节末端具有爪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多数昆虫中胸和后胸各有翅一对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双翅目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对前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后翅退化为平衡棒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翅具翅脉和翅室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某些种类无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755280" y="333360"/>
            <a:ext cx="694836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巨尾阿丽蝇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Aldrichina graha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主要孳生于人粪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也可在腐败的动物质和垃圾中，成蝇主要在室外活动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7" descr="030202B8"/>
          <p:cNvPicPr/>
          <p:nvPr/>
        </p:nvPicPr>
        <p:blipFill>
          <a:blip r:embed="rId1"/>
          <a:srcRect l="17084" t="7237" r="22135" b="35508"/>
          <a:stretch/>
        </p:blipFill>
        <p:spPr>
          <a:xfrm>
            <a:off x="2124000" y="2492280"/>
            <a:ext cx="403236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611280" y="333000"/>
            <a:ext cx="7632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丝光绿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ucilia sericat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幼虫主要孳生于动物尸体或腐败的动物质中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成蝇活动于腥臭腐烂的动物质及垃圾等处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3" descr="030202C8"/>
          <p:cNvPicPr/>
          <p:nvPr/>
        </p:nvPicPr>
        <p:blipFill>
          <a:blip r:embed="rId1"/>
          <a:srcRect l="22844" t="6732" r="14259" b="38835"/>
          <a:stretch/>
        </p:blipFill>
        <p:spPr>
          <a:xfrm>
            <a:off x="2268360" y="3068640"/>
            <a:ext cx="41040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08" dur="1" fill="hold"/>
                                  <p:tgtEl>
                                    <p:spTgt spid="19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68000" y="404640"/>
            <a:ext cx="84438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棕尾别麻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Boettcherisca peregrin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麻蝇成虫产幼虫，幼虫孳生在人畜粪便和垃圾中，有的孳生在酱缸、腌菜缸中。成虫活动于室外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28" descr="030202E8"/>
          <p:cNvPicPr/>
          <p:nvPr/>
        </p:nvPicPr>
        <p:blipFill>
          <a:blip r:embed="rId1"/>
          <a:srcRect l="17528" t="6594" r="19357" b="35765"/>
          <a:stretch/>
        </p:blipFill>
        <p:spPr>
          <a:xfrm>
            <a:off x="2916360" y="3068640"/>
            <a:ext cx="410508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250560" y="189000"/>
            <a:ext cx="81025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厩螫蝇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moxys calcitr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主要孳生于人畜粪便、肉类或腐败的植物质中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在室外活动。刺吸人血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203640" y="2171880"/>
            <a:ext cx="380988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22" dur="1" fill="hold"/>
                                  <p:tgtEl>
                                    <p:spTgt spid="20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04920" y="457200"/>
            <a:ext cx="853416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1" lang="zh-CN" sz="3400" spc="-1" strike="noStrike">
                <a:solidFill>
                  <a:srgbClr val="1f497d"/>
                </a:solidFill>
                <a:latin typeface="Calibri"/>
              </a:rPr>
              <a:t>五、与疾病的关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zh-CN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传播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1)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机械性传播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为蝇类主要传病方式。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消化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霍乱、伤寒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脊髓灰质炎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阿米巴痢疾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贾第虫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蛔虫病等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呼吸道疾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肺结核、肺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雅司病、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皮肤利什曼病、细菌性皮炎、炭疽、破伤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眼病</a:t>
            </a:r>
            <a:r>
              <a:rPr b="1" lang="en-US" sz="27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沙眼、结膜炎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宋体"/>
              </a:rPr>
              <a:t>            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76" dur="1" fill="hold"/>
                                  <p:tgtEl>
                                    <p:spTgt spid="202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57200" y="6091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物性传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锥虫病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吸血舌蝇传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流行于非洲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冈田绕眼果蝇是眼结膜吸吮线虫的中间宿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95" dur="1" fill="hold"/>
                                  <p:tgtEl>
                                    <p:spTgt spid="2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755280" y="549000"/>
            <a:ext cx="80773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蝇幼虫寄生于人体和动物的组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器官而引起的疾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按其寄生的特性分为：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专性蝇蛆病：幼虫各龄期均营寄生生活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兼性蝇蛆病：幼虫通常是腐食性或尸食性蝇种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偶然性蝇蛆病：因误食或误饮被某些蝇卵或幼虫污染的食物或饮水所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9" dur="1" fill="hold"/>
                                  <p:tgtEl>
                                    <p:spTgt spid="20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610920" y="333000"/>
            <a:ext cx="4244760" cy="56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在临床上，蝇蛆病常以幼虫寄生部位命名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：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胃肠蝇蛆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耳、鼻、咽和口腔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眼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泌尿生殖道蝇蛆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皮肤蝇蛆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3" descr="C:\Users\Administrator\Desktop\u=889444373,3707649311&amp;fm=21&amp;gp=0.jpg"/>
          <p:cNvPicPr/>
          <p:nvPr/>
        </p:nvPicPr>
        <p:blipFill>
          <a:blip r:embed="rId1"/>
          <a:stretch/>
        </p:blipFill>
        <p:spPr>
          <a:xfrm>
            <a:off x="4859280" y="3213000"/>
            <a:ext cx="3956040" cy="292896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5003640" y="6278400"/>
            <a:ext cx="493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莲蓬乳（皮肤蝇蛆病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3" descr="C:\Users\Administrator\Desktop\u=3516852016,3545569074&amp;fm=23&amp;gp=0.jpg"/>
          <p:cNvPicPr/>
          <p:nvPr/>
        </p:nvPicPr>
        <p:blipFill>
          <a:blip r:embed="rId2"/>
          <a:stretch/>
        </p:blipFill>
        <p:spPr>
          <a:xfrm>
            <a:off x="5364000" y="189000"/>
            <a:ext cx="3333960" cy="2247840"/>
          </a:xfrm>
          <a:prstGeom prst="rect">
            <a:avLst/>
          </a:prstGeom>
          <a:ln w="0">
            <a:noFill/>
          </a:ln>
        </p:spPr>
      </p:pic>
      <p:sp>
        <p:nvSpPr>
          <p:cNvPr id="209" name="TextBox 7"/>
          <p:cNvSpPr/>
          <p:nvPr/>
        </p:nvSpPr>
        <p:spPr>
          <a:xfrm>
            <a:off x="5796000" y="2349360"/>
            <a:ext cx="537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口 腔 蝇 蛆 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68360" y="40464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六、防 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环境防制：通过清除孳生物、隔离孳生物和改变孳生物的性状使之不适合蝇孳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物理防制：用淹杀、闷杀、堆肥等方法杀灭幼虫及蛹，用直接拍打、电子灭蝇灯捕杀、捕蝇笼诱捕等方法灭成蝇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化学防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⑴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灭幼虫：马拉硫磷、倍硫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　⑵灭成蝇：美曲膦酯、倍硫磷、辛硫磷、马拉硫磷、氯氰菊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生物防制  ：寄生峰作用于蝇蛹，苏云金杆菌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-9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的外毒素对舍蝇和丝光绿蝇的幼虫有效。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cover dir="d"/>
  </p:transition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68" dur="1" fill="hold"/>
                                  <p:tgtEl>
                                    <p:spTgt spid="21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85880" y="1071720"/>
            <a:ext cx="7929360" cy="235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f497d"/>
                </a:solidFill>
                <a:latin typeface="宋体"/>
              </a:rPr>
              <a:t>第四节 </a:t>
            </a:r>
            <a:r>
              <a:rPr b="1" lang="zh-CN" sz="4800" spc="-1" strike="noStrike">
                <a:solidFill>
                  <a:srgbClr val="1f497d"/>
                </a:solidFill>
                <a:latin typeface="Calibri"/>
              </a:rPr>
              <a:t>蚤</a:t>
            </a:r>
            <a:br>
              <a:rPr sz="4800"/>
            </a:br>
            <a:br>
              <a:rPr sz="4000"/>
            </a:br>
            <a:r>
              <a:rPr b="1" i="1" lang="zh-CN" sz="4000" spc="-1" strike="noStrike">
                <a:solidFill>
                  <a:srgbClr val="1f497d"/>
                </a:solidFill>
                <a:latin typeface="宋体"/>
              </a:rPr>
              <a:t> </a:t>
            </a: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Fl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42884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f497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丽蝇翅"/>
          <p:cNvPicPr/>
          <p:nvPr/>
        </p:nvPicPr>
        <p:blipFill>
          <a:blip r:embed="rId1"/>
          <a:stretch/>
        </p:blipFill>
        <p:spPr>
          <a:xfrm>
            <a:off x="214200" y="1714680"/>
            <a:ext cx="4143600" cy="2500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f3a245f5da12fc4f52ac9149773037c2"/>
          <p:cNvPicPr/>
          <p:nvPr/>
        </p:nvPicPr>
        <p:blipFill>
          <a:blip r:embed="rId2"/>
          <a:stretch/>
        </p:blipFill>
        <p:spPr>
          <a:xfrm>
            <a:off x="4714920" y="1428840"/>
            <a:ext cx="3643200" cy="40003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4643280" y="5572080"/>
            <a:ext cx="4000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足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跗节末端有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533520" y="1828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98989"/>
                </a:solidFill>
                <a:latin typeface="Calibri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属于昆虫纲、蚤目。是哺乳动物和鸟类的体外寄生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国已记录的蚤种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种。其中仅少数种类与传播人畜共患病有关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7" dur="1" fill="hold"/>
                                  <p:tgtEl>
                                    <p:spTgt spid="21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两侧扁平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无翅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表有毛、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刺、鬃和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长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mm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左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体棕黄至深褐色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结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头部：略呈三角形，单眼一对，触角一对。刺吸式口器。有的种类有颊栉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前、中、后胸，有些种类前胸背板后缘具有前胸栉。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对足，长而发达，善于跳跃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，前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背板两侧各有气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个。第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节上有臀板。雌蚤在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Calibri"/>
              </a:rPr>
              <a:t>腹板的位置上可见受精囊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F:\寄生虫课件图\03020301.BMP"/>
          <p:cNvPicPr/>
          <p:nvPr/>
        </p:nvPicPr>
        <p:blipFill>
          <a:blip r:embed="rId1"/>
          <a:srcRect l="49045" t="13531" r="4541" b="13306"/>
          <a:stretch/>
        </p:blipFill>
        <p:spPr>
          <a:xfrm>
            <a:off x="5977080" y="692280"/>
            <a:ext cx="3166920" cy="290340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>
            <a:off x="6732720" y="306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人 雌蚤受精 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椭圆形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 ：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.0mm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初产时白色逐渐发育为暗黄色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3" descr="F:\寄生虫课件图\03020304.BMP"/>
          <p:cNvPicPr/>
          <p:nvPr/>
        </p:nvPicPr>
        <p:blipFill>
          <a:blip r:embed="rId1"/>
          <a:srcRect l="39765" t="6129" r="3145" b="30883"/>
          <a:stretch/>
        </p:blipFill>
        <p:spPr>
          <a:xfrm>
            <a:off x="2340000" y="3429000"/>
            <a:ext cx="4032360" cy="2952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62755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幼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细长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淡黄色或乳白色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头部：咀嚼式口器，触角一对。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无足。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腹部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节，末节端部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肛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Times New Roman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3" descr="F:\寄生虫课件图\03020303.BMP"/>
          <p:cNvPicPr/>
          <p:nvPr/>
        </p:nvPicPr>
        <p:blipFill>
          <a:blip r:embed="rId1"/>
          <a:srcRect l="37893" t="5007" r="5527" b="31852"/>
          <a:stretch/>
        </p:blipFill>
        <p:spPr>
          <a:xfrm>
            <a:off x="4859280" y="765000"/>
            <a:ext cx="3457800" cy="259416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2"/>
          <p:cNvSpPr/>
          <p:nvPr/>
        </p:nvSpPr>
        <p:spPr>
          <a:xfrm>
            <a:off x="1285920" y="178596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成（雄）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5500800" y="1785960"/>
            <a:ext cx="207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雌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5643720" y="3714840"/>
            <a:ext cx="85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5429160" y="5214960"/>
            <a:ext cx="257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一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571680" y="5286240"/>
            <a:ext cx="27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第三龄幼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1785960" y="3500280"/>
            <a:ext cx="171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直接箭头连接符 9"/>
          <p:cNvCxnSpPr/>
          <p:nvPr/>
        </p:nvCxnSpPr>
        <p:spPr>
          <a:xfrm flipH="1">
            <a:off x="5857560" y="2857320"/>
            <a:ext cx="2160" cy="573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2" name="直接箭头连接符 11"/>
          <p:cNvCxnSpPr/>
          <p:nvPr/>
        </p:nvCxnSpPr>
        <p:spPr>
          <a:xfrm flipH="1">
            <a:off x="5928480" y="4216320"/>
            <a:ext cx="2520" cy="929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3" name="直接箭头连接符 15"/>
          <p:cNvCxnSpPr/>
          <p:nvPr/>
        </p:nvCxnSpPr>
        <p:spPr>
          <a:xfrm flipH="1" flipV="1">
            <a:off x="3357360" y="5571360"/>
            <a:ext cx="2000880" cy="2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4" name="直接箭头连接符 17"/>
          <p:cNvCxnSpPr/>
          <p:nvPr/>
        </p:nvCxnSpPr>
        <p:spPr>
          <a:xfrm flipV="1">
            <a:off x="2499120" y="4285440"/>
            <a:ext cx="2520" cy="10724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5" name="直接箭头连接符 19"/>
          <p:cNvCxnSpPr/>
          <p:nvPr/>
        </p:nvCxnSpPr>
        <p:spPr>
          <a:xfrm flipV="1">
            <a:off x="2499120" y="2499480"/>
            <a:ext cx="1080" cy="10026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36" name="下箭头 22"/>
          <p:cNvSpPr/>
          <p:nvPr/>
        </p:nvSpPr>
        <p:spPr>
          <a:xfrm>
            <a:off x="5857920" y="2500200"/>
            <a:ext cx="71280" cy="1143000"/>
          </a:xfrm>
          <a:prstGeom prst="down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乘号 32"/>
          <p:cNvSpPr/>
          <p:nvPr/>
        </p:nvSpPr>
        <p:spPr>
          <a:xfrm>
            <a:off x="3857760" y="1928880"/>
            <a:ext cx="1000080" cy="428400"/>
          </a:xfrm>
          <a:custGeom>
            <a:avLst/>
            <a:gdLst>
              <a:gd name="textAreaLeft" fmla="*/ 220320 w 1000080"/>
              <a:gd name="textAreaRight" fmla="*/ 779760 w 1000080"/>
              <a:gd name="textAreaTop" fmla="*/ 56520 h 428400"/>
              <a:gd name="textAreaBottom" fmla="*/ 371880 h 428400"/>
            </a:gdLst>
            <a:ahLst/>
            <a:rect l="textAreaLeft" t="textAreaTop" r="textAreaRight" b="textAreaBottom"/>
            <a:pathLst>
              <a:path w="1000125" h="428625">
                <a:moveTo>
                  <a:pt x="220349" y="149276"/>
                </a:moveTo>
                <a:lnTo>
                  <a:pt x="260061" y="56614"/>
                </a:lnTo>
                <a:lnTo>
                  <a:pt x="500063" y="159472"/>
                </a:lnTo>
                <a:lnTo>
                  <a:pt x="740064" y="56614"/>
                </a:lnTo>
                <a:lnTo>
                  <a:pt x="779776" y="149276"/>
                </a:lnTo>
                <a:lnTo>
                  <a:pt x="628023" y="214313"/>
                </a:lnTo>
                <a:lnTo>
                  <a:pt x="779776" y="279349"/>
                </a:lnTo>
                <a:lnTo>
                  <a:pt x="740064" y="372011"/>
                </a:lnTo>
                <a:lnTo>
                  <a:pt x="500063" y="269153"/>
                </a:lnTo>
                <a:lnTo>
                  <a:pt x="260061" y="372011"/>
                </a:lnTo>
                <a:lnTo>
                  <a:pt x="220349" y="279349"/>
                </a:lnTo>
                <a:lnTo>
                  <a:pt x="372102" y="21431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Box 33"/>
          <p:cNvSpPr/>
          <p:nvPr/>
        </p:nvSpPr>
        <p:spPr>
          <a:xfrm>
            <a:off x="6143760" y="2571840"/>
            <a:ext cx="46188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Box 34"/>
          <p:cNvSpPr/>
          <p:nvPr/>
        </p:nvSpPr>
        <p:spPr>
          <a:xfrm>
            <a:off x="6097680" y="4286160"/>
            <a:ext cx="546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Box 35"/>
          <p:cNvSpPr/>
          <p:nvPr/>
        </p:nvSpPr>
        <p:spPr>
          <a:xfrm>
            <a:off x="3714840" y="578628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~ 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Box 37"/>
          <p:cNvSpPr/>
          <p:nvPr/>
        </p:nvSpPr>
        <p:spPr>
          <a:xfrm>
            <a:off x="1668600" y="250020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3780000" y="162864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雌雄交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Box 37"/>
          <p:cNvSpPr/>
          <p:nvPr/>
        </p:nvSpPr>
        <p:spPr>
          <a:xfrm>
            <a:off x="1495800" y="4214880"/>
            <a:ext cx="7902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三次蜕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Box 34"/>
          <p:cNvSpPr/>
          <p:nvPr/>
        </p:nvSpPr>
        <p:spPr>
          <a:xfrm>
            <a:off x="6151680" y="2571840"/>
            <a:ext cx="54612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24000" y="189000"/>
            <a:ext cx="88200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三、生 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孳生地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其活动场所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动物的洞穴、鸟巢、禽舍，屋内角落 、缝隙 、床下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食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雌雄蚤都吸血。吸血活动频繁，一天吸血数次，每次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钟。耐饥能力很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4140360" y="3573360"/>
            <a:ext cx="4071600" cy="3063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3"/>
          <p:cNvSpPr/>
          <p:nvPr/>
        </p:nvSpPr>
        <p:spPr>
          <a:xfrm>
            <a:off x="2726280" y="4005360"/>
            <a:ext cx="115524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蚤类吸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8" dur="indefinite" restart="never" nodeType="tmRoot">
          <p:childTnLst>
            <p:seq>
              <p:cTn id="979" dur="indefinite" nodeType="mainSeq">
                <p:childTnLst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86" dur="1" fill="hold"/>
                                  <p:tgtEl>
                                    <p:spTgt spid="24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762120" y="762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宿主及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可在宿主体表和动物窝巢内外自由活动，宿主范围很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包括兽类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鸟类及人类。  鼠类为其主要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对宿主的选择性可分为多宿主型、寡宿主型、单宿主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成虫对宿主体温反应敏感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5" dur="1" fill="hold"/>
                                  <p:tgtEl>
                                    <p:spTgt spid="24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250920" y="333360"/>
            <a:ext cx="86104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四、与疾病的关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骚扰、吸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寄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穿皮潜蚤寄生于人体皮下引起潜蚤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疾病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鼠疫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由鼠疫耶尔森菌传播的烈性传染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贮存宿主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旱獭、黄鼠、长爪沙鼠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媒介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国主要有致痒蚤、印鼠客蚤、方形黄鼠蚤等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传播方式：鼠疫耶尔森菌附着于前胃内壁的棘状突起上形成菌栓、堵塞前胃，蚤所吸血液不能进入胃内，血液回流将病原反吐进入宿主体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39" dur="1" fill="hold"/>
                                  <p:tgtEl>
                                    <p:spTgt spid="24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"/>
          <p:cNvPicPr/>
          <p:nvPr/>
        </p:nvPicPr>
        <p:blipFill>
          <a:blip r:embed="rId1"/>
          <a:stretch/>
        </p:blipFill>
        <p:spPr>
          <a:xfrm>
            <a:off x="1071720" y="785880"/>
            <a:ext cx="2560320" cy="34257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4643280" y="1285920"/>
            <a:ext cx="3714840" cy="3000240"/>
          </a:xfrm>
          <a:prstGeom prst="rect">
            <a:avLst/>
          </a:prstGeom>
          <a:ln w="0">
            <a:noFill/>
          </a:ln>
        </p:spPr>
      </p:pic>
      <p:sp>
        <p:nvSpPr>
          <p:cNvPr id="252" name="TextBox 5"/>
          <p:cNvSpPr/>
          <p:nvPr/>
        </p:nvSpPr>
        <p:spPr>
          <a:xfrm>
            <a:off x="300024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鼠 疫 患 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214200" y="609120"/>
            <a:ext cx="485784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型斑疹伤寒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病原体：莫氏立克次氏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贮存宿主：褐家鼠、黄胸鼠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播媒介：印鼠客蚤、缓慢细蚤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感染方式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蚤粪便污染伤口感染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5857920" y="1071720"/>
            <a:ext cx="267948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48" dur="1" fill="hold"/>
                                  <p:tgtEl>
                                    <p:spTgt spid="2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腹部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由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节组成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最后数节变成外生殖器。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外生殖器是种类鉴定的重要依据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受 精 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7" dur="1" fill="hold"/>
                                  <p:tgtEl>
                                    <p:spTgt spid="5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)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绦虫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蚤是犬复孔绦虫、缩小膜壳绦虫、微小膜壳绦虫的中间宿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*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人体误食含有似囊尾蚴的蚤而感染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Calibri"/>
              </a:rPr>
              <a:t>   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五、我国重要的传病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致痒蚤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人蚤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Pulex irritans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世界性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吸血习性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嗜吸犬、猫和人血。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Picture 3" descr="致痒蚤"/>
          <p:cNvPicPr/>
          <p:nvPr/>
        </p:nvPicPr>
        <p:blipFill>
          <a:blip r:embed="rId1"/>
          <a:stretch/>
        </p:blipFill>
        <p:spPr>
          <a:xfrm>
            <a:off x="1143000" y="3500280"/>
            <a:ext cx="5410080" cy="2781360"/>
          </a:xfrm>
          <a:prstGeom prst="rect">
            <a:avLst/>
          </a:prstGeom>
          <a:ln w="0">
            <a:noFill/>
          </a:ln>
        </p:spPr>
      </p:pic>
      <p:sp>
        <p:nvSpPr>
          <p:cNvPr id="258" name="TextBox 3"/>
          <p:cNvSpPr/>
          <p:nvPr/>
        </p:nvSpPr>
        <p:spPr>
          <a:xfrm>
            <a:off x="6580440" y="407196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9" dur="indefinite" restart="never" nodeType="tmRoot">
          <p:childTnLst>
            <p:seq>
              <p:cTn id="1050" dur="indefinite" nodeType="mainSeq">
                <p:childTnLst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57" dur="1" fill="hold"/>
                                  <p:tgtEl>
                                    <p:spTgt spid="25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印鼠客蚤（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Xenopsylla cheopi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沿海诸省多见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主要为家栖鼠类，也吸人血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、鼠型斑疹伤寒和缩小膜壳绦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0" name="Picture 3" descr="F:\印鼠客蚤.jpg"/>
          <p:cNvPicPr/>
          <p:nvPr/>
        </p:nvPicPr>
        <p:blipFill>
          <a:blip r:embed="rId1"/>
          <a:stretch/>
        </p:blipFill>
        <p:spPr>
          <a:xfrm>
            <a:off x="857160" y="2928960"/>
            <a:ext cx="6005520" cy="3083040"/>
          </a:xfrm>
          <a:prstGeom prst="rect">
            <a:avLst/>
          </a:prstGeom>
          <a:ln w="0">
            <a:noFill/>
          </a:ln>
        </p:spPr>
      </p:pic>
      <p:sp>
        <p:nvSpPr>
          <p:cNvPr id="261" name="TextBox 3"/>
          <p:cNvSpPr/>
          <p:nvPr/>
        </p:nvSpPr>
        <p:spPr>
          <a:xfrm>
            <a:off x="6675840" y="364320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66" dur="1" fill="hold"/>
                                  <p:tgtEl>
                                    <p:spTgt spid="25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228600" y="45684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方形黄鼠蚤（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itellophilus tesquorum sungaris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）松江亚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分布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东北、华北、西北。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宿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黄鼠、沙鼠、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跳鼠、布氏田鼠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传病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鼠疫 、猪丹毒病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4" descr="F:\石\北医教材\教材图集\教材图2\方形黄鼠蚤.jpg"/>
          <p:cNvPicPr/>
          <p:nvPr/>
        </p:nvPicPr>
        <p:blipFill>
          <a:blip r:embed="rId1"/>
          <a:stretch/>
        </p:blipFill>
        <p:spPr>
          <a:xfrm>
            <a:off x="611280" y="3789360"/>
            <a:ext cx="5575320" cy="2808360"/>
          </a:xfrm>
          <a:prstGeom prst="rect">
            <a:avLst/>
          </a:prstGeom>
          <a:ln w="0">
            <a:noFill/>
          </a:ln>
        </p:spPr>
      </p:pic>
      <p:sp>
        <p:nvSpPr>
          <p:cNvPr id="264" name="TextBox 3"/>
          <p:cNvSpPr/>
          <p:nvPr/>
        </p:nvSpPr>
        <p:spPr>
          <a:xfrm>
            <a:off x="6048720" y="4076640"/>
            <a:ext cx="127764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75" dur="1" fill="hold"/>
                                  <p:tgtEl>
                                    <p:spTgt spid="26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250560" y="333000"/>
            <a:ext cx="856908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zh-CN" sz="4000" spc="-1" strike="noStrike">
                <a:solidFill>
                  <a:srgbClr val="1f497d"/>
                </a:solidFill>
                <a:latin typeface="Calibri"/>
              </a:rPr>
              <a:t>六、防 制 原 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清除孳生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堵塞鼠洞，房舍、禽畜、棚圏的地面要清洁干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蚤、防蚤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用 敌敌畏、溴氰菊酯等灭蚤。 家养动物可定期药浴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拟菊酯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。外露皮肤凃抹二乙甲苯酰胺或邻苯二甲酸二甲酯，可防蚤叮咬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灭鼠是灭蚤的重要措施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86" dur="1" fill="hold"/>
                                  <p:tgtEl>
                                    <p:spTgt spid="2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57160" y="785880"/>
            <a:ext cx="7772400" cy="27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第五节   虱</a:t>
            </a:r>
            <a:br>
              <a:rPr sz="4400"/>
            </a:br>
            <a:r>
              <a:rPr b="1" lang="en-US" sz="4400" spc="-1" strike="noStrike">
                <a:solidFill>
                  <a:srgbClr val="4f81bd"/>
                </a:solidFill>
                <a:latin typeface="Arial"/>
              </a:rPr>
              <a:t>L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428840" y="4357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于 晶 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172720" cy="35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属于吸虱目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noplur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，它的发育各期都不离开宿主。寄生于人体的虱有两种，即人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和耻阴虱（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thirus pubi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。人虱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亚种：头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</a:t>
            </a:r>
            <a:r>
              <a:rPr b="0" i="1" lang="en-US" sz="2800" spc="-1" strike="noStrike">
                <a:solidFill>
                  <a:srgbClr val="000000"/>
                </a:solidFill>
                <a:latin typeface="宋体"/>
              </a:rPr>
              <a:t>capitis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和体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宋体"/>
              </a:rPr>
              <a:t>Pediculus humanus corporis)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图片 2" descr="u=3312652888,3245302658&amp;fm=23&amp;gp=0.jpg"/>
          <p:cNvPicPr/>
          <p:nvPr/>
        </p:nvPicPr>
        <p:blipFill>
          <a:blip r:embed="rId1"/>
          <a:stretch/>
        </p:blipFill>
        <p:spPr>
          <a:xfrm>
            <a:off x="285840" y="3286080"/>
            <a:ext cx="4219560" cy="257184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u=4063009795,195258531&amp;fm=23&amp;gp=0.jpg"/>
          <p:cNvPicPr/>
          <p:nvPr/>
        </p:nvPicPr>
        <p:blipFill>
          <a:blip r:embed="rId2"/>
          <a:stretch/>
        </p:blipFill>
        <p:spPr>
          <a:xfrm>
            <a:off x="4786200" y="3286080"/>
            <a:ext cx="4000680" cy="2571840"/>
          </a:xfrm>
          <a:prstGeom prst="rect">
            <a:avLst/>
          </a:prstGeom>
          <a:ln w="0">
            <a:noFill/>
          </a:ln>
        </p:spPr>
      </p:pic>
      <p:sp>
        <p:nvSpPr>
          <p:cNvPr id="271" name="TextBox 5"/>
          <p:cNvSpPr/>
          <p:nvPr/>
        </p:nvSpPr>
        <p:spPr>
          <a:xfrm>
            <a:off x="428760" y="6143760"/>
            <a:ext cx="41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体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6"/>
          <p:cNvSpPr/>
          <p:nvPr/>
        </p:nvSpPr>
        <p:spPr>
          <a:xfrm>
            <a:off x="5072040" y="62150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                 </a:t>
            </a:r>
            <a:r>
              <a:rPr b="0" lang="zh-CN" sz="1800" spc="-1" strike="noStrike">
                <a:solidFill>
                  <a:srgbClr val="000000"/>
                </a:solidFill>
                <a:latin typeface="Franklin Gothic Book"/>
                <a:ea typeface="黑体"/>
              </a:rPr>
              <a:t>人  头  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成虫背腹扁平，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狭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虫可达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.4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虫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呈菱形，触角和复眼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口器为刺吸式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融合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均粗壮，长度大致相等，爪与胫突合垅形成攫握器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分节明显，外观可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雌虱腹部末端呈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”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形，雄虱腹后端钝圆，有一交合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图片 2" descr="u=2548676083,214516702&amp;fm=23&amp;gp=0.jpg"/>
          <p:cNvPicPr/>
          <p:nvPr/>
        </p:nvPicPr>
        <p:blipFill>
          <a:blip r:embed="rId1"/>
          <a:stretch/>
        </p:blipFill>
        <p:spPr>
          <a:xfrm>
            <a:off x="6084720" y="476280"/>
            <a:ext cx="2857680" cy="304488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179280" y="414972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耻阴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体形宽短似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雌虱体长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雄性稍小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灰白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与人虱相似。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宽短，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前足细小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中、后足及爪均粗大。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宽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左大括号 5"/>
          <p:cNvSpPr/>
          <p:nvPr/>
        </p:nvSpPr>
        <p:spPr>
          <a:xfrm>
            <a:off x="611280" y="3933720"/>
            <a:ext cx="571320" cy="15717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760"/>
              <a:gd name="textAreaBottom" fmla="*/ 1557000 h 157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图片 2" descr="u=266626919,3303569894&amp;fm=23&amp;gp=0.jpg"/>
          <p:cNvPicPr/>
          <p:nvPr/>
        </p:nvPicPr>
        <p:blipFill>
          <a:blip r:embed="rId1"/>
          <a:stretch/>
        </p:blipFill>
        <p:spPr>
          <a:xfrm>
            <a:off x="4786200" y="3000240"/>
            <a:ext cx="3643560" cy="2928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179280" y="4292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6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7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9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交配后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16"/>
          <p:cNvSpPr/>
          <p:nvPr/>
        </p:nvSpPr>
        <p:spPr>
          <a:xfrm>
            <a:off x="4214880" y="521496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Calibri"/>
              </a:rPr>
              <a:t>周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17"/>
          <p:cNvSpPr/>
          <p:nvPr/>
        </p:nvSpPr>
        <p:spPr>
          <a:xfrm>
            <a:off x="1902600" y="3357720"/>
            <a:ext cx="45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矩形 12"/>
          <p:cNvSpPr/>
          <p:nvPr/>
        </p:nvSpPr>
        <p:spPr>
          <a:xfrm>
            <a:off x="4720680" y="15001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的发育为不全变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09120" y="533520"/>
            <a:ext cx="815364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、发育与变态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）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个体发育经胚胎发育和胚后发育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个阶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胎发育在卵内完成。从孵出幼虫到成虫性成熟  此过程为胚后发育 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: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昆虫的幼虫变为成虫要经过外部形态、内部结构、生理功能、生活习性及行为和本能的一系列变化，这些变化过程的总和，称为变态。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1" dur="1" fill="hold"/>
                                  <p:tgtEl>
                                    <p:spTgt spid="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三、生 态 习 性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寄生部位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人头虱寄生于头部、耳后发根处；体虱多寄生于贴身衣物的缝隙、衣领和腰带处。耻阴虱主要寄生于阴毛、腋毛和肛毛上。卵产于并粘于衣物纤维和毛发上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吸血习性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若虫和雌、雄成虫都嗜吸人血，边吸血边排粪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适应性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虱对温度和湿度都极其敏感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人虱：人与人的直接和间接接触引起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耻阴虱：通过性交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6908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000"/>
            </a:br>
            <a:r>
              <a:rPr b="1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5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流行性斑疹伤寒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病原体：普氏立克次体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传播方式：病原体随虱粪排岀或虱体被压碎后污染皮肤、伤口而感染人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图片 3" descr="u=3605823938,4010447386&amp;fm=23&amp;gp=0.jpg"/>
          <p:cNvPicPr/>
          <p:nvPr/>
        </p:nvPicPr>
        <p:blipFill>
          <a:blip r:embed="rId1"/>
          <a:stretch/>
        </p:blipFill>
        <p:spPr>
          <a:xfrm>
            <a:off x="5500800" y="3284640"/>
            <a:ext cx="2663640" cy="307332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4" descr="u=2311946530,2997879117&amp;fm=23&amp;gp=0.jpg"/>
          <p:cNvPicPr/>
          <p:nvPr/>
        </p:nvPicPr>
        <p:blipFill>
          <a:blip r:embed="rId2"/>
          <a:stretch/>
        </p:blipFill>
        <p:spPr>
          <a:xfrm>
            <a:off x="1071720" y="3282840"/>
            <a:ext cx="3213000" cy="31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453440" cy="658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战壕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五日热巴尔通体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与流行性斑疹伤寒相似。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虱媒回归热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原体：回归热疏螺旋体。   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媒介：人体虱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播方式：虱体被压碎后病原体污染皮肤、伤口而感染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66764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      </a:t>
            </a: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制原则</a:t>
            </a:r>
            <a:br>
              <a:rPr sz="2900"/>
            </a:br>
            <a:r>
              <a:rPr b="1" lang="en-US" sz="3600" spc="-1" strike="noStrike">
                <a:solidFill>
                  <a:srgbClr val="800080"/>
                </a:solidFill>
                <a:latin typeface="Calibri"/>
              </a:rPr>
              <a:t>    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防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虱的防制应以预防为主。注意个人卫生。预防耻阴虱在于洁身自好。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灭虱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法：高温或冷冻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杀虫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药物：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0.0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％二氯苯醚菊酯、倍硫磷粉剂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楷体"/>
                <a:ea typeface="楷体"/>
              </a:rPr>
              <a:t>第六节 蜚 蠊</a:t>
            </a:r>
            <a:br>
              <a:rPr sz="6000"/>
            </a:br>
            <a:r>
              <a:rPr b="1" lang="en-US" sz="6000" spc="-1" strike="noStrike">
                <a:solidFill>
                  <a:srgbClr val="0070c0"/>
                </a:solidFill>
                <a:latin typeface="楷体"/>
                <a:ea typeface="楷体"/>
              </a:rPr>
              <a:t>Cockroaches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于 晶 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蜚蠊俗称蟑螂，属蜚蠊目，全世界约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4000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，我国记录有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16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种。我国常见的有德国小蠊和美洲大蠊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56840" y="837720"/>
            <a:ext cx="80010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外形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椭圆形，背腹扁平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0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小者仅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mm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颜色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呈黄褐色或深褐色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头部：小，大部分隐藏于前胸腹面；有一对触角，细长呈鞭形，分节很多；一对复眼发达；口器为咀嚼式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胸部：前胸发达，中、后胸较小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翅；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对足细长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腹部：扁阔，分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节。雄虫最末端腹板有一腹刺；雌虫末腹板呈分叶状，有夹持卵荚的功能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3276720" y="76320"/>
            <a:ext cx="258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Calibri"/>
              </a:rPr>
              <a:t>一、形  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左大括号 5"/>
          <p:cNvSpPr/>
          <p:nvPr/>
        </p:nvSpPr>
        <p:spPr>
          <a:xfrm>
            <a:off x="642960" y="3714840"/>
            <a:ext cx="571320" cy="157140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1571400"/>
              <a:gd name="textAreaBottom" fmla="*/ 1556640 h 1571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8"/>
                  <a:pt x="10800" y="655"/>
                </a:cubicBezTo>
                <a:lnTo>
                  <a:pt x="10800" y="10145"/>
                </a:lnTo>
                <a:cubicBezTo>
                  <a:pt x="10800" y="10473"/>
                  <a:pt x="5400" y="10800"/>
                  <a:pt x="0" y="10800"/>
                </a:cubicBezTo>
                <a:cubicBezTo>
                  <a:pt x="5400" y="10800"/>
                  <a:pt x="10800" y="11128"/>
                  <a:pt x="10800" y="11455"/>
                </a:cubicBezTo>
                <a:lnTo>
                  <a:pt x="10800" y="20945"/>
                </a:lnTo>
                <a:cubicBezTo>
                  <a:pt x="10800" y="212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79280" y="4076640"/>
            <a:ext cx="5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5"/>
          <p:cNvSpPr/>
          <p:nvPr/>
        </p:nvSpPr>
        <p:spPr>
          <a:xfrm>
            <a:off x="939960" y="1500120"/>
            <a:ext cx="850680" cy="37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蜚 蠊 成 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Picture 4" descr="C:\Users\Administrator\Desktop\0ff8297789adcba9501a2c4fdde89ec4.jpg"/>
          <p:cNvPicPr/>
          <p:nvPr/>
        </p:nvPicPr>
        <p:blipFill>
          <a:blip r:embed="rId1"/>
          <a:stretch/>
        </p:blipFill>
        <p:spPr>
          <a:xfrm>
            <a:off x="3571920" y="1857240"/>
            <a:ext cx="428616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二、生 活 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2"/>
          <p:cNvSpPr/>
          <p:nvPr/>
        </p:nvSpPr>
        <p:spPr>
          <a:xfrm>
            <a:off x="5857920" y="48578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3"/>
          <p:cNvSpPr/>
          <p:nvPr/>
        </p:nvSpPr>
        <p:spPr>
          <a:xfrm>
            <a:off x="2000160" y="4857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若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Box 4"/>
          <p:cNvSpPr/>
          <p:nvPr/>
        </p:nvSpPr>
        <p:spPr>
          <a:xfrm>
            <a:off x="3714840" y="2714760"/>
            <a:ext cx="171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成虫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直接箭头连接符 6"/>
          <p:cNvCxnSpPr/>
          <p:nvPr/>
        </p:nvCxnSpPr>
        <p:spPr>
          <a:xfrm>
            <a:off x="5285880" y="3214800"/>
            <a:ext cx="1358280" cy="1286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2" name="直接箭头连接符 8"/>
          <p:cNvCxnSpPr/>
          <p:nvPr/>
        </p:nvCxnSpPr>
        <p:spPr>
          <a:xfrm flipH="1" flipV="1">
            <a:off x="3357000" y="5143320"/>
            <a:ext cx="2215080" cy="21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313" name="直接箭头连接符 11"/>
          <p:cNvCxnSpPr/>
          <p:nvPr/>
        </p:nvCxnSpPr>
        <p:spPr>
          <a:xfrm flipV="1">
            <a:off x="2428920" y="3285360"/>
            <a:ext cx="1072080" cy="142956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14" name="TextBox 14"/>
          <p:cNvSpPr/>
          <p:nvPr/>
        </p:nvSpPr>
        <p:spPr>
          <a:xfrm>
            <a:off x="5717880" y="2286000"/>
            <a:ext cx="1030680" cy="20718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交配后十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Box 16"/>
          <p:cNvSpPr/>
          <p:nvPr/>
        </p:nvSpPr>
        <p:spPr>
          <a:xfrm>
            <a:off x="3643200" y="5572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~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个月孵化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17"/>
          <p:cNvSpPr/>
          <p:nvPr/>
        </p:nvSpPr>
        <p:spPr>
          <a:xfrm>
            <a:off x="1902600" y="3000240"/>
            <a:ext cx="45468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5~7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个龄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f81bd"/>
                </a:solidFill>
                <a:latin typeface="Calibri"/>
              </a:rPr>
              <a:t>                        </a:t>
            </a:r>
            <a:r>
              <a:rPr b="1" lang="zh-CN" sz="4000" spc="-1" strike="noStrike">
                <a:solidFill>
                  <a:srgbClr val="4f81bd"/>
                </a:solidFill>
                <a:latin typeface="Calibri"/>
              </a:rPr>
              <a:t>三、生  态</a:t>
            </a:r>
            <a:br>
              <a:rPr sz="4000"/>
            </a:b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　　</a:t>
            </a:r>
            <a:br>
              <a:rPr sz="28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孳生场所：喜栖息于室内温暖、且与食物、水分靠近的场所。昼伏夜行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食性：杂食性昆虫，尤嗜食糖类和肉食类，并需经常饮水。耐饥性较強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　　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季节消长和越冬：通常始见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达高峰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月以后逐渐减少，直至消失。当温度低于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.5℃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蜚蠊的成虫、若虫和卵荚可在黑暗、无风的场所越冬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14040" y="609480"/>
            <a:ext cx="7467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全变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胚后发育的各期之间在外部形态、生活习性等方面差别显著。  全变态 的昆虫有四个发育期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卵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幼虫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蛹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成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（如蝇等）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5" dur="1" fill="hold"/>
                                  <p:tgtEl>
                                    <p:spTgt spid="5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         </a:t>
            </a:r>
            <a:r>
              <a:rPr b="1" lang="zh-CN" sz="4400" spc="-1" strike="noStrike">
                <a:solidFill>
                  <a:srgbClr val="4f81bd"/>
                </a:solidFill>
                <a:latin typeface="宋体"/>
              </a:rPr>
              <a:t>四、与疾病的关系</a:t>
            </a:r>
            <a:br>
              <a:rPr sz="4400"/>
            </a:br>
            <a:r>
              <a:rPr b="0" lang="zh-CN" sz="29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2900"/>
            </a:br>
            <a:r>
              <a:rPr b="0" lang="en-US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传播疾病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其传病的方式为体表和肠道机械性携带病原体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细菌类：传播痢疾志贺菌、沙门菌、铜绿假单胞菌、变形杆菌、黄曲霉菌等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病毒类：腺病毒、脊髓灰质炎病毒和乙肝病毒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寄生虫类：可携带蠕虫卵和溶组织内阿米巴包囊。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为中间宿主  是美丽筒线虫、东方筒线虫和缩小膜壳绦虫的中间宿主。　　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宋体"/>
              </a:rPr>
              <a:t>五、防 制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矩形 2"/>
          <p:cNvSpPr/>
          <p:nvPr/>
        </p:nvSpPr>
        <p:spPr>
          <a:xfrm>
            <a:off x="357120" y="1857240"/>
            <a:ext cx="86439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根本措施：保持室内清洁卫生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及时清除垃圾是防制蜚蠊的根本措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　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化学药物杀灭成虫：二氯苯醚菊酯、溴氰菊酯、顺式氯氰菊酯、美曲磷脂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9:09:00Z</dcterms:created>
  <dc:creator>fare</dc:creator>
  <dc:description/>
  <cp:keywords/>
  <dc:language>en-US</dc:language>
  <cp:lastModifiedBy>微软用户</cp:lastModifiedBy>
  <dcterms:modified xsi:type="dcterms:W3CDTF">2015-10-08T07:26:47Z</dcterms:modified>
  <cp:revision>18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